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D66-2554-4FCC-8C4F-816D99DB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A1B-FD0B-4CDC-84E0-FBEE3F39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117-927B-4E6A-BFC1-569175B6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CC9-69C0-433C-88C5-2AB8B65F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C9D-8B60-4658-953E-20A3C6A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10D-798D-40DF-B3C2-02706A5B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AD8-3B68-4B60-8658-114405C1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BB6-D29E-4A74-B4FB-154A3EB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2BD-F9A4-4231-861E-5AC902D6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68A-C0B0-4F1E-8347-12412166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90D-9446-4F3D-B165-B8968E5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24C-3BBC-43A1-A6BD-B67BBC7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6ADA-CF45-4A6D-A208-55764D7C7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C5A8-7196-4AA0-9986-F278765DE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1" descr=""/>
          <p:cNvPicPr/>
          <p:nvPr/>
        </p:nvPicPr>
        <p:blipFill>
          <a:blip r:embed="rId1"/>
          <a:srcRect l="-7546" t="-91" r="-1937" b="-1703"/>
          <a:stretch/>
        </p:blipFill>
        <p:spPr>
          <a:xfrm>
            <a:off x="-228600" y="0"/>
            <a:ext cx="9991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6899-9B32-4DA0-80AA-3FBA7D550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ject 2" descr=""/>
          <p:cNvPicPr/>
          <p:nvPr/>
        </p:nvPicPr>
        <p:blipFill>
          <a:blip r:embed="rId1"/>
          <a:srcRect l="-824" t="-1159" r="0" b="-489"/>
          <a:stretch/>
        </p:blipFill>
        <p:spPr>
          <a:xfrm>
            <a:off x="0" y="0"/>
            <a:ext cx="90964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38C-76F4-4CA7-B17B-1988C8843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 Energy Sources for Cont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Energy for contraction comes from molecul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is in limited supply and so must often be re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reatine phosph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stores excess energy released by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ochondria, is present to regenerate ATP from ADP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osph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Whenever the supply of ATP is sufficient, creat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osphokinase promotes the synthesis of creatine phosph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As ATP decomposes, the energy from creatine phosphate can b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red to ADP molecules, converting them back to A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C085-29A8-49C2-8EEB-CC1E35E52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 Energy Sources for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Supply and Cellular 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The early phase of cellular respiration yields f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lecule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, so muscle has a high requirement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, which enables the complete breakd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glucose in the mitochond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Hemoglob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red blood cells carries oxygen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he pigment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glob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ores oxygen in muscle t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04F4-0F8C-4160-915C-751794CAA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    Role of Myosin and Act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.    Energy Sources for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Supply and Cellular Respi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De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When a muscle loses its ability to contract during strenuo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ercise, it is referred to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tig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Muscle fatigue usually arises from the accumulation of lactic ac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us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. A lowered pH as a result of accumulated lactic ac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vents the muscle from contrac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A muscle cramp occurs due to a lack of ATP required to 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cium ions back to the sarcoplasmic reticulum so muscle fibers 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1:01:06Z</dcterms:modified>
  <cp:revision>128</cp:revision>
  <dc:subject/>
  <dc:title>PowerPoint Presentation</dc:title>
</cp:coreProperties>
</file>